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DF04-79E9-48F4-8A7B-BA6445B2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224C-406E-40E1-8DB4-0034A588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084E-F914-43E8-AF4C-44FAA40B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0638-123B-4CCA-95C2-A7C2973B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F924-5DBD-4121-9484-A722146E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5E88-3FD3-4887-BA76-0F96E437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0DD5-62FD-4AF8-BA51-3044F497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7AAD-A376-4D05-936F-EE5297AD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677D-FD98-45BE-9532-1F336BE3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A92-F531-478F-B8B4-6712D1F2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3BB1-0957-4BB2-9677-1BB4F46C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898C-611B-4481-A3FA-0E4E85FB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3C3B-1A5E-45E8-9FAE-075CD42441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rect Object Pronoun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DOP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spañol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apítulo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Direct Object Pronou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irect Object is the person or thing in a sentence that receives the action of the verb directly and answers the questions WHAT or WHOM of the ver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DOP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Calibri"/>
              </a:rPr>
              <a:t>Subject </a:t>
            </a:r>
            <a:r>
              <a:rPr b="1" i="1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MX" sz="3200" spc="-1" strike="noStrike">
                <a:solidFill>
                  <a:srgbClr val="000000"/>
                </a:solidFill>
                <a:latin typeface="Calibri"/>
              </a:rPr>
              <a:t>D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s-MX" sz="3200" spc="-1" strike="noStrike">
                <a:solidFill>
                  <a:srgbClr val="000000"/>
                </a:solidFill>
                <a:latin typeface="Calibri"/>
              </a:rPr>
              <a:t>Prono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Yo 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MX" sz="3200" spc="-1" strike="noStrike">
                <a:solidFill>
                  <a:srgbClr val="0b5395"/>
                </a:solidFill>
                <a:latin typeface="Calibri"/>
              </a:rPr>
              <a:t>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Tú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MX" sz="3200" spc="-1" strike="noStrike">
                <a:solidFill>
                  <a:srgbClr val="0b5395"/>
                </a:solidFill>
                <a:latin typeface="Calibri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El/ella/ud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MX" sz="3200" spc="-1" strike="noStrike">
                <a:solidFill>
                  <a:srgbClr val="0b5395"/>
                </a:solidFill>
                <a:latin typeface="Calibri"/>
              </a:rPr>
              <a:t>LO, 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sotro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b5395"/>
                </a:solidFill>
                <a:latin typeface="Calibri"/>
              </a:rPr>
              <a:t>N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los/ellas/u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b5395"/>
                </a:solidFill>
                <a:latin typeface="Calibri"/>
              </a:rPr>
              <a:t>LOS, 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do we use the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times a DOP is used instead of a noun. Meaning, it REPLACES the noun that answers the question WHAT or WHOM of the verb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lose the door.    What do I close?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door (this is the DO—now replace it with a Pronoun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opens the book.  What does he open?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book (this is the DO—replace it w/ a pronoun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ow do you know which DOP to replace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—decide whether the noun is masculine or femin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—decide whether the noun is singular or plur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—look at your chart to determine which one. (Often you will be using the el/ella/ud or the ellos/ellas/u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ere does the DOP go in the sentence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—it go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  fro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conjugated verb, b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fter the subjec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sent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. He opens the book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opens it.  ------------El lo a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if the sentence is negative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---if the sentence is negative, the DOP goes after the subject and the words NO or NUNCA,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bu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till before the verb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. I don’t see the book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don’t see it --------------No lo ve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. He never watches tv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never watches it. -------El nunca la mir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Comic Sans MS"/>
              </a:rPr>
              <a:t>TENER vs. VENI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Qué tienen que hac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ener + que + verb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* obligation formul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* Somebody “has to do something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 </a:t>
            </a:r>
            <a:r>
              <a:rPr b="0" i="1" lang="en-US" sz="3000" spc="-1" strike="noStrike">
                <a:solidFill>
                  <a:srgbClr val="0b5395"/>
                </a:solidFill>
                <a:latin typeface="Calibri"/>
              </a:rPr>
              <a:t>tengo que estudia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ra el exam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sotros </a:t>
            </a:r>
            <a:r>
              <a:rPr b="0" i="1" lang="en-US" sz="3000" spc="-1" strike="noStrike">
                <a:solidFill>
                  <a:srgbClr val="0b5395"/>
                </a:solidFill>
                <a:latin typeface="Calibri"/>
              </a:rPr>
              <a:t>tenemos que limpia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 coci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see other act. In file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9:55:46Z</dcterms:created>
  <dc:creator>Maple Lake</dc:creator>
  <dc:description/>
  <dc:language>en-US</dc:language>
  <cp:lastModifiedBy>Maple Lake</cp:lastModifiedBy>
  <dcterms:modified xsi:type="dcterms:W3CDTF">2009-01-07T19:22:09Z</dcterms:modified>
  <cp:revision>22</cp:revision>
  <dc:subject/>
  <dc:title>Direct Object Pronouns (DOPs)</dc:title>
</cp:coreProperties>
</file>